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1C4-3F43-4961-B557-0B45F206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30A-9FF1-41C1-9D0B-BBEC13A8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147-FFF1-4519-BABA-56FF5D4B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5C0-BA4A-42F9-877E-8D5705AF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602-2FE9-4B6F-B4D5-EDFB285E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112-D22C-4C08-9A9C-1CFFBB53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778-0621-4383-AB04-C5D50A21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D4E-B5DD-4E02-880A-54684B8E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68D-C6C4-42BC-8708-878D38E0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A0A-6307-4D1D-A1CB-C26E2C1C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CEF-362A-430B-BE4C-7878F9E1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E31-248C-4E05-ADCB-43B519DD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E4BF-0A6C-4BB7-A4E7-84A7A9CAA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0" y="620640"/>
            <a:ext cx="82440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сновы воен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лужбы (ОВС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2287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Правовые основы воинской службы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875640" cy="525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2800" spc="-1" strike="noStrike">
                <a:solidFill>
                  <a:srgbClr val="00ff00"/>
                </a:solidFill>
                <a:latin typeface="Calibri"/>
                <a:ea typeface="Calibri"/>
              </a:rPr>
              <a:t>Основы правового регулирования обеспечения обороны страны и строительства Вооруженных Сил содержатся в Конституции Российской Федерации. Значимость Конституции для нормальной жизнедеятельности государства, в том числе и для военной деятельности, состоит в том, что ее нормы и институты обладают высшей юридической силой. Это означает, что все иные законы и правовые акты созданы на основе и в соответствии с Конституцией и не могут ей противореч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6742080" y="846000"/>
            <a:ext cx="24019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Другие основные законодательные и нормативные правовые акты, регулирующие вопросы обороны и военного строительств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79280" y="1628640"/>
            <a:ext cx="712944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 «О создании Вооруженных Сил РФ»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кон «О безопасности»;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акон «Об обороне»;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«О воинской обязанности и военной службе»;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кон «О статусе военнослужащих»;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акон «О государственной границ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Российской Федерации»;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«О пенсионном обеспечении лиц, проходивших военную службу, службу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ах внутренних дел и их семей»;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оенная доктр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бщевоинские устав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6594480" y="2276640"/>
            <a:ext cx="25495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Призыв граждан на военную службу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6480000" cy="23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зыву на военную службу подлежат граждане мужского пола в возрасте от 18 до 27 лет, состоящие или обязанные состоять на воинском учете, не пребывающие в запасе и не имеющие права на освобождение от военной служ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2916000" cy="218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6659640" y="1557360"/>
            <a:ext cx="2282760" cy="2421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3348000" y="4653000"/>
            <a:ext cx="5796000" cy="18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зыв граждан на военную службу осуществляют на основании указов Президента Российской Федерации и проводят два раза в год (с 1 апреля по 30 июня и с 1 октября по 31 декабря) на срок 24 или 12 меся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Призывная коми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2920" y="765000"/>
            <a:ext cx="885816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ля проведения призыва создают призывную комиссию. Гражданин, подлежащий призыву на военную службу, проходит медицинское освидетельствование. По его результатам, а также с учетом других данных призывная комиссия принимает одно из следующих реш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08000" y="3268800"/>
            <a:ext cx="88930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 призыве на военную службу;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 направлении на альтернативную служб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 предоставлении отсрочки от призыва на военную службу;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б освобождении от воинской обяз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0" y="4952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3203640" y="4933800"/>
            <a:ext cx="2952720" cy="1924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3"/>
          <a:stretch/>
        </p:blipFill>
        <p:spPr>
          <a:xfrm>
            <a:off x="6443640" y="4948200"/>
            <a:ext cx="27003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9036000" cy="367164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знанные на медицинском освиде-тельствовании годными к военной службе или годными к военной службе с незначительными ограничениями подлежат призыву на военную службу. Как правило, граждан, имеющих категорию годности к военной службе с незначительными ограничениями, не направляют в военно-воздушные войска, морскую пехоту, плавающий состав ВМФ и некоторые другие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2340000" y="380988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08000" y="-360"/>
            <a:ext cx="9036000" cy="41497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жданам, признанным временно не годными к военной службе, предоставляют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срочку от призыва для обследования и лечения на срок 6 или 12 месяцев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знанные ограниченно годными зачисляются в запас, и один раз в три года они подлежат освидетельствованию до достижения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27-летнего возра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знанные не годными к военной службе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нимаются с воинского уч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843280" y="4071960"/>
            <a:ext cx="36734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99"/>
                </a:solidFill>
                <a:latin typeface="Arial"/>
              </a:rPr>
              <a:t>Организация медицинского освидетельствования граждан при постановке их на воинский уче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52280" y="1600200"/>
            <a:ext cx="883944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ответствии с Федеральным законом «О воинской обязанности и военной службе» гражданин при первоначальной постановке на воинский учет подлежит медицинскому освидетельствованию врачами - специалистами: терапевтом, хирургом, психиатром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ач - специалист, изучив представленные медицинские документы на гражданина и обследовав его, оценивает состояние здоровья, физического развития и выносит заключения о категории годности к военной службе. Категории годности к военной службе обозначены буквами «А», «Б», «В», «Г», «Д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А»-годен к военной служб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Б»- годен к военной службе с незначительными ограничен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»-ограничено годен к военной служб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Г»-временно не годен к военной служб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»- не годен к военной служ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чень составов и воинских званий военнослужащих Вооруженных Сил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280" y="1143000"/>
          <a:ext cx="8839440" cy="568800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Соста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военнослужащ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Воинские з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Войск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Кораб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Солдаты и мат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рядовой, ефрей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матрос, старший мат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Сержанты и мат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младший сержант, сержант, старший сержант, старш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старшина 2-й статьи, старшина 1-й статьи, главный старшина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главный корабельный старш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Прапорщики и мичм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прапорщик, старший прапор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мичман, старший мич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Младшие офиц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младший лейтенант, лейтенант, старший лейтенант, капи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младший лейтенант, лейтенант, старший лейтенант, капитан- лейтен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Старшие офиц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майор, подполковник, полков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капитан 3-го ранга, капитан 2-го ранга, капитан 1-го ра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Высшие офиц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генерал-майор, генерал-лейтенант, генерал-полковник, генерал арм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11111"/>
                          </a:solidFill>
                          <a:latin typeface="Arial"/>
                        </a:rPr>
                        <a:t>контр-адмирал, вице-адмирал, адмирал, адмирал ф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шал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1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евоинские уставы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воинские уставы – это нормативно–правовые акты, которые регламентируют жизнь и быт военнослужащих, их взаимоотношения между собой и повседневн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ы устав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в внутренней служб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евой уста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в гарнизонной и караульной служ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циплинарный уст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оенная прися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610840" cy="556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Я (фамилия, имя, отчество) торжественно присягаю на верность своему Отечеству –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лянусь свято соблюдать Конституцию Российской Федерации, строго выполнять требования воинских уставов, приказы командиров, нача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лянусь достойно исполнять воинский долг, мужественно защищать свободу, независимость и конституционный строй России, народ и Отечест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9280" y="0"/>
            <a:ext cx="8964720" cy="501336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енная служба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ый ви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льной государственной службы; она заключается в повседневном выполнении гражданами воинских обязанностей. Военная служба в России всегда считается почетной обязанностью, священным долгом, исключительным по важности и необход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задача военной службы - постоянная целенаправленная подготовка к вооруженной защите или вооруженная защита целостности и неприкосновенности территории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аспорядок дн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76312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спорядке дня предусматривается время для проведения утренней физ. зарядки, утреннего и вечернего туалета, утреннего осмотра, учебных занятий и подготовки к ним, смены специальной (рабочей) одежды, чистки обуви и мытья рук перед приёмом  пищи, ухода за вооружением и военной техникой, воспитательной, культурно – досуговой  и спортивно – массовой  работы. Время для личных потребностей военнослужащих составляет не менее 2 ч, 8 ч отводится для 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енная служба по контрак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военной службы по контракту – это одно из направлений создания профессиональной ар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енная служба по контракту – это добровольная служба, когда гражданин заключает контракт с Министерством обороны РФ, где обязуется проходить военную службу на определённых усло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кт имеют право заключ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еннослужащие, у которых заканчивается предыдущий контракт о прохождении военной служ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еннослужащие, проходящие военную службу  по призыву, прослужившие не менее 12 месяце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ждане пребывающие в запа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ждане мужского пола, не пребывающие в запасе, окончившие образовательные учреждения высшего профессиона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ждане женского пола, не пребывающие  в запа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вольнение в запа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ас Вооруженных Сил РФ служит для развертывания ВС при их мобилизации и пополнении во время войны. Запас ВС составляют граждане, состоящие на воинском учёте, прошедшие военную службу или освобождённые от неё по различным причинам, но годные к службе в вое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числение в запас ВС производится в соответствии с Федеральным законом «О воинской обязанности и военной служб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4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4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став запа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990720"/>
          <a:ext cx="8305920" cy="5273640"/>
        </p:xfrm>
        <a:graphic>
          <a:graphicData uri="http://schemas.openxmlformats.org/drawingml/2006/table">
            <a:tbl>
              <a:tblPr/>
              <a:tblGrid>
                <a:gridCol w="2820960"/>
                <a:gridCol w="1801800"/>
                <a:gridCol w="1881360"/>
                <a:gridCol w="1801800"/>
              </a:tblGrid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ы запаса (воинские зван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1224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 граждан, пребывающих в запа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о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т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29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даты, матросы, сержанты, старшины, прапорщики и мичм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 3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е офиц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5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2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ры, капитаны 3-го ранга, подполковники, капитаны 2-го ран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5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6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ковники, капитаны 1-го ран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5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6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ие офиц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6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6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randomBar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Начало воинской служб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181440" y="1600200"/>
            <a:ext cx="9145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Началом военной службы для граждан, не пребывающих в запасе и призванных на службу, считают день убытия из военного комиссариата к месту службы. При зачислении в списки части им присваивают воинское звание рядовой или матрос (кроме имеющих офицерское зва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3" descr=""/>
          <p:cNvPicPr/>
          <p:nvPr/>
        </p:nvPicPr>
        <p:blipFill>
          <a:blip r:embed="rId1"/>
          <a:stretch/>
        </p:blipFill>
        <p:spPr>
          <a:xfrm>
            <a:off x="179280" y="4365720"/>
            <a:ext cx="87854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За отличные успех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181440" y="1599840"/>
            <a:ext cx="932508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Звание ефрейтор и старший матрос присваивают рядовым или матросам, образцово выполняющим свои обязанности, имеющим хорошие и отличные результаты в учебе и примерную воинскую дисциплину, а также при назначении на должности, для которых предусмотрены эти воинские з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755640" y="4508640"/>
            <a:ext cx="7705800" cy="15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ержанты и старши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5796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2800" spc="-1" strike="noStrike">
                <a:solidFill>
                  <a:srgbClr val="00ff00"/>
                </a:solidFill>
                <a:latin typeface="Calibri"/>
                <a:ea typeface="Calibri"/>
              </a:rPr>
              <a:t>Первые сержантские и старшинские звания присваивают успешно окончившим учебные части или сдавшим испытания по установленным программ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alibri"/>
                <a:ea typeface="Calibri"/>
              </a:rPr>
              <a:t>	</a:t>
            </a:r>
            <a:r>
              <a:rPr b="1" lang="ru-RU" sz="2800" spc="-1" strike="noStrike">
                <a:solidFill>
                  <a:srgbClr val="00ff00"/>
                </a:solidFill>
                <a:latin typeface="Calibri"/>
                <a:ea typeface="Calibri"/>
              </a:rPr>
              <a:t>	</a:t>
            </a:r>
            <a:r>
              <a:rPr b="1" lang="ru-RU" sz="2800" spc="-1" strike="noStrike">
                <a:solidFill>
                  <a:srgbClr val="00ff00"/>
                </a:solidFill>
                <a:latin typeface="Calibri"/>
                <a:ea typeface="Calibri"/>
              </a:rPr>
              <a:t>Последующие сержантские и старшинские звания присваивают в соответствии с занимаемой должностью и в порядке поощ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4923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Окончание военной служб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60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ff00"/>
                </a:solidFill>
                <a:latin typeface="Calibri"/>
                <a:ea typeface="Calibri"/>
              </a:rPr>
              <a:t>Окончанием военной службы считают день, в который истекает срок военной служб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5854680" y="1157400"/>
            <a:ext cx="328932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Воинская обяза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инская обязанность - это установленный законом долг граждан нести службу в рядах Вооруженных сил и выполнять другие обязанности, связанные с обороной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инская обязанность предусматри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инский уч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ую подготовку к военной служб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ыв на военную служб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хождение военной службы по призыв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бывание в запас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ыв на военные сборы и прохождение военных сборов в период пребывания в запа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28600" y="1142640"/>
            <a:ext cx="876312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инский уч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составная часть воинской обязанности граждан. Воинскому учету в РФ подлежат все граждане мужского пола, достигшие призывного возраста, а также военнообязанные по месту житель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инский учет призван определить возможности государства по обеспечению комплектования Вооруженных Сил личным соста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язательная подготовка граждан к военной слу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280" y="1600200"/>
            <a:ext cx="883944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ая подготовка граждан к военной службе определена Федеральным законом РФ «О воинской обязанности и военной служб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ую подготовку гражданина к военной службе условно можно разделить на два пери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cc00"/>
                </a:solidFill>
                <a:latin typeface="Arial"/>
              </a:rPr>
              <a:t>Первый период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к военной службе граждан допризывного возраста. Допризывным считается возраст до момента первоначальной постановки на воинский у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cc00"/>
                </a:solidFill>
                <a:latin typeface="Arial"/>
              </a:rPr>
              <a:t>Второй перио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дготовка к военной службе граждан призывного возраста. Призывник - гражданин РФ, состоящий на воинском учете, до момента отправки его со сборного пункта к месту прохождения военной служ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татус военнослужаще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920" y="1031400"/>
            <a:ext cx="8686800" cy="4557960"/>
          </a:xfrm>
          <a:prstGeom prst="rect">
            <a:avLst/>
          </a:prstGeom>
          <a:solidFill>
            <a:srgbClr val="000066">
              <a:alpha val="4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00ff00"/>
                </a:solidFill>
                <a:latin typeface="Times New Roman"/>
              </a:rPr>
              <a:t>Статус военнослужащих определен как совокупность их прав и свобод, гарантированных государством, а также их обязанностей и ответственности, установленных законодательством.</a:t>
            </a:r>
            <a:r>
              <a:rPr b="1" i="1" lang="ru-RU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651640" y="3581280"/>
            <a:ext cx="337644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Права и обязан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036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реализации права на свободу слова, выражение своих мнений и убеждений, доступ к получению и распространению информации военнослужащие не должны разглашать государственную и военную тайну, обсуждать и критиковать приказы командиров (начальников). Они вправе участвовать в митингах, собраниях, шествиях, демонстрациях, пикетировании, не преследующих политических целей и не запрещенных органами государственной власти и органами местного самоуправления, и только во внеслужебное время. Но участвовать в забастовках они не имеют пра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027240" y="4941720"/>
            <a:ext cx="29131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6084720" cy="566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2400" spc="-1" strike="noStrike">
                <a:solidFill>
                  <a:srgbClr val="00ff00"/>
                </a:solidFill>
                <a:latin typeface="Calibri"/>
                <a:ea typeface="Calibri"/>
              </a:rPr>
              <a:t>Военнослужащие имеют право на участие в управлении делами государства и общества. В частности, право избирать и быть избранными в органы государственной власти и органы местного самоуправления. Они могут состоять в общественных объединениях, не преследующих политических целей, и участвовать в их деятельности, не находясь при исполнении обязанностей военной службы. В свободное от службы время они вправе участвовать в богослужениях и религиозных церемониях как частные л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Права и обязан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6132600" y="2060640"/>
            <a:ext cx="3011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Права, обусловленные спецификой военной служб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2360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ff00"/>
                </a:solidFill>
                <a:latin typeface="Calibri"/>
                <a:ea typeface="Calibri"/>
              </a:rPr>
              <a:t>Кроме общегражданских прав и свобод, военнослужащие имеют права, обусловленные спецификой военной службы. Реализацию этих прав они осуществляют путем получения от государства денежного довольствия, продовольственного, вещевого обеспечения и предоставления жилых помещ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380360" y="1413000"/>
            <a:ext cx="13428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6:15:45Z</dcterms:created>
  <dc:creator>Mironov Ivan</dc:creator>
  <dc:description/>
  <dc:language>en-US</dc:language>
  <cp:lastModifiedBy>й</cp:lastModifiedBy>
  <dcterms:modified xsi:type="dcterms:W3CDTF">2026-01-16T17:45:26Z</dcterms:modified>
  <cp:revision>16</cp:revision>
  <dc:subject/>
  <dc:title>Слайд 1</dc:title>
</cp:coreProperties>
</file>